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3A9-818E-45AC-83F6-FBBF26A8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42E-6996-4858-AB97-24E8701C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879-6E6B-43F1-899C-B9039A4F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2BC-628D-4264-A8F1-C5406D7F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A370-66CD-40D7-840F-0A454841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ECF8-EF71-4FFA-A4E2-0A7A3CF3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C461-84A1-459B-BA0E-938DEB15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3063-F56C-482B-BE42-75D56402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003E-2A00-47C2-935F-9A3AB0BD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5E4E-D1E6-423B-BB11-EE24B274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91EB-3414-4F9C-8FA5-E3B91981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EC1-138B-49D4-B5AA-2A058050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B027-32B7-4E12-BF12-87AD252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6A98-25C9-49AA-8148-E03F135E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19C8-179C-44D7-9E08-2DFBF95D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154E-162F-4603-8D6F-34EF76EF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C017-3A10-4A3E-B88E-DF226DA1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3540D-B456-46C3-B6FE-2A99BAD2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428B-750D-4783-8AAE-085DC7BF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DCE1-FF5D-447E-B4E3-5C643FF7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55CC2-D176-4212-8F42-BD02562A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42B8-FBD0-4B3A-94A0-4FDB06E6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14B-47D5-4FFE-A3A7-A5CBE996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7F77B-1C9E-4D61-8848-4D30877F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FA203-2807-4DB5-8895-F8CA65E3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814F-6F1D-4592-B4EE-DA4F4FD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1624-8617-4047-AA88-C64E470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5ECFD-711A-4C31-8B93-C58DBAF6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24FC-06A4-4C5C-AA5E-900ADF45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318E3-9EB6-4430-A5F1-7CB6B457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01E1C-DEDC-4492-A903-66B650B2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A59A5-42E4-481C-9583-41D2BD01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8B48-C27A-4A40-B243-28B6EC87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A03-8FE3-42F9-90FC-3FA55DF6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C158E-395C-45BB-BB87-FCB6BBF6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13629-4FD7-41BA-8A19-E243FF4A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C8E92-6025-4A6A-AD4F-E34DB658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EB49C-73BA-4CBB-8B52-C8E2CF1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A7256-3F5E-490D-A0B4-A95A9175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F5B1C-B45B-43F3-83B6-C6F7D8EF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C6F79-BEEF-41A3-BCA5-ACB9E3F4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068E3-9200-4CAF-BF5F-79D59A37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B4EC-9B3B-4F19-9A4D-21255FD5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9DE-02E8-46FF-A4AF-05F571A0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242B-BB05-4582-93DA-AC47489D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424-5A01-4D60-8E04-2E94B395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1E5-7AF7-4220-9AC6-37179D4B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D3B-D536-4FD3-B42F-3802D18A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85D9-9663-45A5-920D-40C77736619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3DF9-9F60-4E41-B7C1-F0D0DACA210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488C-4487-4A39-871A-0EE2CD38375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C304-C509-4F4A-B620-409252B832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8520"/>
            <a:ext cx="8229600" cy="1157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. Approaches to Evaluation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6 clas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3 projec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1 group present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Review of Data/Progra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3 clas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ass Activiti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 Presenta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2 clas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valuation of a School Program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. Field Experie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35 hour field experi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pproach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5: Expertise &amp; Consumer-Oriented*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6: Program-Orie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7: Decision-Oriented*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8: Participant-Orien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pter 9: Cultural Competence &amp; Capacity Building*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*(project associated chapt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view of Data/Progr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Educational Data– Review of School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ategoriz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y Demographics, Student Learning, Percep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Local – Critique of Local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, SAT, PSSA, Curriculum-ba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ritiqu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the strengths and weakn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3. Global – Reflect on Global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Reflec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n the information and make observations about the nation, state, and distri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valuation Project &amp; Presentation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Guidelines in Ch. 11-13 and 1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th your mento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 a recently adopted program or initia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cate a good evaluation report that has been comple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terview (at least 3) intended us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rmine their reaction to the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they do not have the information secure it for them prior to the intervie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ject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summary your written document shoul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mmarize the evalu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 your personal critique of the document and the methodolog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y the strengths and weaknesses of the pro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your recommendation would be if you were the administrator responsible for reviewing the progra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Project Presentation (continue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sentations of Evaluation Proje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20 minu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 minutes for the pres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udience as stakeholder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 minutes for Q&amp;A and Feedback from the gro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22:03:02Z</dcterms:created>
  <dc:creator>rschultz</dc:creator>
  <dc:description/>
  <dc:language>en-US</dc:language>
  <cp:lastModifiedBy>rschultz</cp:lastModifiedBy>
  <dcterms:modified xsi:type="dcterms:W3CDTF">2011-02-04T00:09:53Z</dcterms:modified>
  <cp:revision>4</cp:revision>
  <dc:subject/>
  <dc:title>Course Overview</dc:title>
</cp:coreProperties>
</file>